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0F8-C853-4912-81E8-7E58CD1E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42C-525F-4975-B4C6-F9C0AD0C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532-6659-48B6-B01B-EF983FF0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A3A-C732-4CFF-BC6A-B923EA39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FD7-54F6-47DC-8D70-0DE9D1A3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74E-CD06-4AB9-A1C5-6AA139D1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6F8-0C04-41FD-954B-FED29314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C90-F560-4797-B0AC-4263C840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F60-BB6D-4CA6-A05E-07609869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3CD-CAC0-4959-923A-B4B6D6A4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DFC-EE97-4013-909F-F013DAAC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D9A-CEA0-4528-8BEB-771170D0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A387-8607-43F8-89A7-BA6BB53C2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aylea G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6765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eek cit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1905120" y="2438280"/>
            <a:ext cx="52578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447920" y="12193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y of wis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right way to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63360" y="-419040"/>
            <a:ext cx="12668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ocial studiest.jpg"/>
          <p:cNvPicPr/>
          <p:nvPr/>
        </p:nvPicPr>
        <p:blipFill>
          <a:blip r:embed="rId1"/>
          <a:stretch/>
        </p:blipFill>
        <p:spPr>
          <a:xfrm>
            <a:off x="2819520" y="2133720"/>
            <a:ext cx="46116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ni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2590920" y="22096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rea of land nearly surrounded by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t0.gstatic.com/images?q=tbn:ANd9GcTlhzGssrsqN0MA-MoOdow1hCAhl8cGiDQQ37IYoeTevyDQcu_apQ"/>
          <p:cNvPicPr/>
          <p:nvPr/>
        </p:nvPicPr>
        <p:blipFill>
          <a:blip r:embed="rId1"/>
          <a:stretch/>
        </p:blipFill>
        <p:spPr>
          <a:xfrm>
            <a:off x="3657600" y="4419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905120" y="1752480"/>
            <a:ext cx="5715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war between Athens and Spart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t0.gstatic.com/images?q=tbn:ANd9GcRmTy0V6NYLHEnA9GNdaQvYFb92_xFiWy6AauDlIJTZ0K_wfEXR-w"/>
          <p:cNvPicPr/>
          <p:nvPr/>
        </p:nvPicPr>
        <p:blipFill>
          <a:blip r:embed="rId1"/>
          <a:stretch/>
        </p:blipFill>
        <p:spPr>
          <a:xfrm>
            <a:off x="2819520" y="2743200"/>
            <a:ext cx="35049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447920" y="1828800"/>
            <a:ext cx="6781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t1.gstatic.com/images?q=tbn:ANd9GcTD-8uShODqs-6qAVblR7AHkZqCBJCQ7Xvi-Z3XGEaMxzOfoTNM"/>
          <p:cNvPicPr/>
          <p:nvPr/>
        </p:nvPicPr>
        <p:blipFill>
          <a:blip r:embed="rId1"/>
          <a:stretch/>
        </p:blipFill>
        <p:spPr>
          <a:xfrm>
            <a:off x="2743200" y="3352680"/>
            <a:ext cx="42670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1828800" y="160020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heltered place along coast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t2.gstatic.com/images?q=tbn:ANd9GcRnT0IndRzoQTbkywH4Ko1XuhPcv_qEZJP8R3PBexl6JJ6KVt6s"/>
          <p:cNvPicPr/>
          <p:nvPr/>
        </p:nvPicPr>
        <p:blipFill>
          <a:blip r:embed="rId1"/>
          <a:srcRect l="0" t="0" r="0" b="14817"/>
          <a:stretch/>
        </p:blipFill>
        <p:spPr>
          <a:xfrm>
            <a:off x="1371600" y="2741760"/>
            <a:ext cx="5867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static.ddmcdn.com/gif/parthenon-and-the-acropolis-landmark-1.jpg"/>
          <p:cNvPicPr/>
          <p:nvPr/>
        </p:nvPicPr>
        <p:blipFill>
          <a:blip r:embed="rId1"/>
          <a:stretch/>
        </p:blipFill>
        <p:spPr>
          <a:xfrm>
            <a:off x="1219320" y="243828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1.gstatic.com/images?q=tbn:ANd9GcQWN7Ww6w-GgDmiHM0Tp34UcFlTqDZ6l-eoQnamnvmIuoAsC7Qf"/>
          <p:cNvPicPr/>
          <p:nvPr/>
        </p:nvPicPr>
        <p:blipFill>
          <a:blip r:embed="rId1"/>
          <a:stretch/>
        </p:blipFill>
        <p:spPr>
          <a:xfrm>
            <a:off x="1752480" y="1981080"/>
            <a:ext cx="5096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209680" y="144792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t1.gstatic.com/images?q=tbn:ANd9GcT4LdPzdblqpOEHOpeJ9s9gRNSKUAJEMDTbuN7dU3xiI-E5MbhX8w"/>
          <p:cNvPicPr/>
          <p:nvPr/>
        </p:nvPicPr>
        <p:blipFill>
          <a:blip r:embed="rId1"/>
          <a:stretch/>
        </p:blipFill>
        <p:spPr>
          <a:xfrm>
            <a:off x="1981080" y="3073320"/>
            <a:ext cx="424836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tize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828800" y="12193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2590920" y="2521080"/>
            <a:ext cx="325728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752480" y="13716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o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ho lives apart from Greece but kept economic ties with i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t0.gstatic.com/images?q=tbn:ANd9GcSdtoRfjBcflssZg4AiK2TkRz_o38FCC5YSiSNttfSj9D0cZwye"/>
          <p:cNvPicPr/>
          <p:nvPr/>
        </p:nvPicPr>
        <p:blipFill>
          <a:blip r:embed="rId1"/>
          <a:stretch/>
        </p:blipFill>
        <p:spPr>
          <a:xfrm>
            <a:off x="2057400" y="3179880"/>
            <a:ext cx="42958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304920" y="16002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orm of government where people vote to make deci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2362320" y="2666880"/>
            <a:ext cx="43146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676520" y="1447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hear evidence and make decisions in a court of la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63360" y="-1004760"/>
            <a:ext cx="217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63360" y="-1004760"/>
            <a:ext cx="217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63360" y="-1004760"/>
            <a:ext cx="217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http://t2.gstatic.com/images?q=tbn:ANd9GcRKblpSUyiQnRm2AP0rnnS5FWuCh0nxrcmb1h9IWJ82L60b8Sy1"/>
          <p:cNvPicPr/>
          <p:nvPr/>
        </p:nvPicPr>
        <p:blipFill>
          <a:blip r:embed="rId1"/>
          <a:stretch/>
        </p:blipFill>
        <p:spPr>
          <a:xfrm>
            <a:off x="2286000" y="3124080"/>
            <a:ext cx="39909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990720" y="2590920"/>
            <a:ext cx="6172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514600" y="11430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t2.gstatic.com/images?q=tbn:ANd9GcSsq4HhS0vVs0CIqb0lkC_Y4C6LJebttAnWVh6q79NA1L1ewvIp"/>
          <p:cNvPicPr/>
          <p:nvPr/>
        </p:nvPicPr>
        <p:blipFill>
          <a:blip r:embed="rId1"/>
          <a:stretch/>
        </p:blipFill>
        <p:spPr>
          <a:xfrm>
            <a:off x="2286000" y="2508120"/>
            <a:ext cx="48960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1T17:12:47Z</dcterms:modified>
  <cp:revision>95</cp:revision>
  <dc:subject/>
  <dc:title>Ancient Greece</dc:title>
</cp:coreProperties>
</file>